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413B-AE1F-4581-9567-86450464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C615-6729-47DF-8950-31574A15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1AEA-54F4-454E-B43D-F12CC914D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62E1-3B34-4741-997F-B7978A5FF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1A3A-D704-410B-BDEE-3046808A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44A1-D53D-47AE-86F3-BA194826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A462-A6E1-46C1-8A2F-2361A29A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3BBA-BF76-4788-87CB-386DBA10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7DC4-FB56-48F2-B873-1B96CBAB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81AE-7EF1-4B41-B323-43BDCBE4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412D-DFBB-422A-8B8A-594BC318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C5B2-6D76-409D-95CC-361D4E65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3FFC-3B6A-4A1E-AF43-CA8DEA352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997000" cy="3504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29000" y="76320"/>
            <a:ext cx="5181480" cy="43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uhaus 93"/>
              </a:rPr>
              <a:t>Lektion 2</a:t>
            </a:r>
            <a:r>
              <a:rPr b="1" lang="en-US" sz="2400" spc="-1" strike="noStrike">
                <a:solidFill>
                  <a:srgbClr val="cc3399"/>
                </a:solidFill>
                <a:latin typeface="Bauhaus 93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Bauhaus 9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1.  Match the pictures and greetings.  What is the pirate captain’s nam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2.  What are they saying?  Write it in the speech bubb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3.  What are they saying?  Write it dow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4.  Solve the letter puzzle.  Write the dialogue in your notebo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5.  Put a check in the appropriate answer and then write the sentences in your note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6.  Play the dice game working in pairs or in small groups.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er abknicken – cut her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7.  What words are missing? Fill in the blanks.  Then create your own dialogue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962520"/>
            <a:ext cx="8686800" cy="26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8.  Write questions and answers following the exampl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9.  Write dialogues like in the examp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1.  Which words from the list correspon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2.  What are the correct words?  Write them under the appropriate pictu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3.  What would you say?  Write it down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4.  Write the appropriate words from the list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563868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Arial"/>
              </a:rPr>
              <a:t>*Ü = Übung, which means exercise, not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8:27:52Z</dcterms:created>
  <dc:creator>udsd</dc:creator>
  <dc:description/>
  <dc:language>en-US</dc:language>
  <cp:lastModifiedBy>Hart</cp:lastModifiedBy>
  <dcterms:modified xsi:type="dcterms:W3CDTF">2009-09-29T19:56:29Z</dcterms:modified>
  <cp:revision>6</cp:revision>
  <dc:subject/>
  <dc:title>Slide 1</dc:title>
</cp:coreProperties>
</file>